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745-F79F-4F11-A405-5761BEEC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137-C41F-430A-893D-31D3861E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33D-BA79-47A5-AEAD-9A725A5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F3B-8BA1-40DE-969D-B370D27F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B9F-57E5-4754-BB54-C4ACBFF7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864-9C65-434B-9DA8-C9F98753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8A1-E542-4D67-8105-8904F68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75D-ECDF-4E4F-A371-73B8AE88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289-0B2B-4877-97E7-5CF476E2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E29-1914-4993-A30A-80693C64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DF5-0E96-45F3-BC84-9665540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37A-F3CA-4DFE-96E3-0664828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2F5-AA5B-43AB-AC01-26DD6D2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86E-A879-44E4-B252-131E1D82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’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y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3-11-12T19:01:49Z</dcterms:modified>
  <cp:revision>79</cp:revision>
  <dc:subject/>
  <dc:title>Molecular Genetics</dc:title>
</cp:coreProperties>
</file>